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907588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01EC8-DF7C-43BC-BB2E-9F908FC59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742680" y="397836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169F5-4B69-4B0C-93F0-4DDF338AB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426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572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0B52F-2ABB-439C-8E39-88BC7FAB0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589920" y="1828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36800" y="1828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742680" y="3978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589920" y="3978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36800" y="3978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2F0BC-556E-4BB9-91BF-68D71E0D3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828BE-DC17-425A-8BCF-53CF085DE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742680" y="18288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65094-5B82-4D0C-872B-6DE3AC9DD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76880-2793-4CCD-8FE9-D308E8AA6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00CFA-95D9-4429-9F3E-AB07BCB28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C7DC1-E7C6-47DA-AD9F-B413C0B31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742680" y="228240"/>
            <a:ext cx="842004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D54F5-98B7-40CB-88C8-F0A3A0D97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7426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07B25-9279-4CB1-879F-1A89792AE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742680" y="18288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9D784-533F-4284-9699-D0B564217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0572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AC1F1-525D-4ECD-8788-FF19A65A3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742680" y="397836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500D3-BBA6-4A11-ADA2-DF487DBEE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742680" y="397836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2CB3B-3681-4A8F-9C2F-1A642755E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7426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0572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09837-F73E-4169-80A3-9A1FBBA8A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89920" y="1828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36800" y="1828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742680" y="3978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89920" y="3978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36800" y="3978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B2E5F-75A1-4417-8FD8-FCA11059F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DA72A-B6C0-43AE-8ADB-064E97377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DA62C-CD55-4A7B-B7EA-855159477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0B979-5E3C-4941-A6A0-D660FE2A9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742680" y="228240"/>
            <a:ext cx="842004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309EF-D350-4D0A-9C15-EEA6FE7B1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426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9F317-AA44-44EC-B653-374E3C4D8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572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2BF42-B5AF-4ABF-A386-DDCA806A2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742680" y="397836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0C0FE-2702-4238-8DD1-64269AFFB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85400" cy="6173640"/>
            <a:chOff x="0" y="0"/>
            <a:chExt cx="9185400" cy="617364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643800" cy="6173640"/>
            </a:xfrm>
            <a:custGeom>
              <a:avLst/>
              <a:gdLst/>
              <a:ahLst/>
              <a:rect l="l" t="t" r="r" b="b"/>
              <a:pathLst>
                <a:path w="4185" h="3889">
                  <a:moveTo>
                    <a:pt x="4184" y="3418"/>
                  </a:moveTo>
                  <a:lnTo>
                    <a:pt x="495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676" y="3888"/>
                  </a:lnTo>
                  <a:lnTo>
                    <a:pt x="4184" y="3418"/>
                  </a:lnTo>
                </a:path>
              </a:pathLst>
            </a:custGeom>
            <a:solidFill>
              <a:srgbClr val="99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479600" y="0"/>
              <a:ext cx="5835600" cy="5116680"/>
            </a:xfrm>
            <a:custGeom>
              <a:avLst/>
              <a:gdLst/>
              <a:ahLst/>
              <a:rect l="l" t="t" r="r" b="b"/>
              <a:pathLst>
                <a:path w="3676" h="3223">
                  <a:moveTo>
                    <a:pt x="400" y="0"/>
                  </a:moveTo>
                  <a:lnTo>
                    <a:pt x="3675" y="3036"/>
                  </a:lnTo>
                  <a:lnTo>
                    <a:pt x="3474" y="3222"/>
                  </a:lnTo>
                  <a:lnTo>
                    <a:pt x="0" y="0"/>
                  </a:lnTo>
                  <a:lnTo>
                    <a:pt x="400" y="0"/>
                  </a:lnTo>
                </a:path>
              </a:pathLst>
            </a:custGeom>
            <a:solidFill>
              <a:srgbClr val="99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760920" y="0"/>
              <a:ext cx="4916520" cy="4057560"/>
            </a:xfrm>
            <a:custGeom>
              <a:avLst/>
              <a:gdLst/>
              <a:ahLst/>
              <a:rect l="l" t="t" r="r" b="b"/>
              <a:pathLst>
                <a:path w="3097" h="2556">
                  <a:moveTo>
                    <a:pt x="682" y="0"/>
                  </a:moveTo>
                  <a:lnTo>
                    <a:pt x="3096" y="2238"/>
                  </a:lnTo>
                  <a:lnTo>
                    <a:pt x="2754" y="2555"/>
                  </a:lnTo>
                  <a:lnTo>
                    <a:pt x="0" y="0"/>
                  </a:lnTo>
                  <a:lnTo>
                    <a:pt x="682" y="0"/>
                  </a:lnTo>
                </a:path>
              </a:pathLst>
            </a:custGeom>
            <a:solidFill>
              <a:srgbClr val="99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5254560" y="0"/>
              <a:ext cx="3930840" cy="3367080"/>
            </a:xfrm>
            <a:custGeom>
              <a:avLst/>
              <a:gdLst/>
              <a:ahLst/>
              <a:rect l="l" t="t" r="r" b="b"/>
              <a:pathLst>
                <a:path w="2476" h="2121">
                  <a:moveTo>
                    <a:pt x="0" y="0"/>
                  </a:moveTo>
                  <a:lnTo>
                    <a:pt x="2286" y="2120"/>
                  </a:lnTo>
                  <a:lnTo>
                    <a:pt x="2475" y="1945"/>
                  </a:lnTo>
                  <a:lnTo>
                    <a:pt x="376" y="0"/>
                  </a:lnTo>
                  <a:lnTo>
                    <a:pt x="0" y="0"/>
                  </a:lnTo>
                </a:path>
              </a:pathLst>
            </a:custGeom>
            <a:solidFill>
              <a:srgbClr val="99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742680" y="18288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6600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A5562-A392-44A0-8855-B4C7A780430C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7C41C-DCF7-4295-8D44-F08DF40BE9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0" y="0"/>
            <a:ext cx="9185400" cy="6173640"/>
            <a:chOff x="0" y="0"/>
            <a:chExt cx="9185400" cy="6173640"/>
          </a:xfrm>
        </p:grpSpPr>
        <p:sp>
          <p:nvSpPr>
            <p:cNvPr id="47" name=""/>
            <p:cNvSpPr/>
            <p:nvPr/>
          </p:nvSpPr>
          <p:spPr>
            <a:xfrm>
              <a:off x="0" y="0"/>
              <a:ext cx="6643800" cy="6173640"/>
            </a:xfrm>
            <a:custGeom>
              <a:avLst/>
              <a:gdLst/>
              <a:ahLst/>
              <a:rect l="l" t="t" r="r" b="b"/>
              <a:pathLst>
                <a:path w="4185" h="3889">
                  <a:moveTo>
                    <a:pt x="4184" y="3418"/>
                  </a:moveTo>
                  <a:lnTo>
                    <a:pt x="495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676" y="3888"/>
                  </a:lnTo>
                  <a:lnTo>
                    <a:pt x="4184" y="3418"/>
                  </a:lnTo>
                </a:path>
              </a:pathLst>
            </a:custGeom>
            <a:solidFill>
              <a:srgbClr val="99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479600" y="0"/>
              <a:ext cx="5835600" cy="5116680"/>
            </a:xfrm>
            <a:custGeom>
              <a:avLst/>
              <a:gdLst/>
              <a:ahLst/>
              <a:rect l="l" t="t" r="r" b="b"/>
              <a:pathLst>
                <a:path w="3676" h="3223">
                  <a:moveTo>
                    <a:pt x="400" y="0"/>
                  </a:moveTo>
                  <a:lnTo>
                    <a:pt x="3675" y="3036"/>
                  </a:lnTo>
                  <a:lnTo>
                    <a:pt x="3474" y="3222"/>
                  </a:lnTo>
                  <a:lnTo>
                    <a:pt x="0" y="0"/>
                  </a:lnTo>
                  <a:lnTo>
                    <a:pt x="400" y="0"/>
                  </a:lnTo>
                </a:path>
              </a:pathLst>
            </a:custGeom>
            <a:solidFill>
              <a:srgbClr val="99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760920" y="0"/>
              <a:ext cx="4916520" cy="4057560"/>
            </a:xfrm>
            <a:custGeom>
              <a:avLst/>
              <a:gdLst/>
              <a:ahLst/>
              <a:rect l="l" t="t" r="r" b="b"/>
              <a:pathLst>
                <a:path w="3097" h="2556">
                  <a:moveTo>
                    <a:pt x="682" y="0"/>
                  </a:moveTo>
                  <a:lnTo>
                    <a:pt x="3096" y="2238"/>
                  </a:lnTo>
                  <a:lnTo>
                    <a:pt x="2754" y="2555"/>
                  </a:lnTo>
                  <a:lnTo>
                    <a:pt x="0" y="0"/>
                  </a:lnTo>
                  <a:lnTo>
                    <a:pt x="682" y="0"/>
                  </a:lnTo>
                </a:path>
              </a:pathLst>
            </a:custGeom>
            <a:solidFill>
              <a:srgbClr val="99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54560" y="0"/>
              <a:ext cx="3930840" cy="3367080"/>
            </a:xfrm>
            <a:custGeom>
              <a:avLst/>
              <a:gdLst/>
              <a:ahLst/>
              <a:rect l="l" t="t" r="r" b="b"/>
              <a:pathLst>
                <a:path w="2476" h="2121">
                  <a:moveTo>
                    <a:pt x="0" y="0"/>
                  </a:moveTo>
                  <a:lnTo>
                    <a:pt x="2286" y="2120"/>
                  </a:lnTo>
                  <a:lnTo>
                    <a:pt x="2475" y="1945"/>
                  </a:lnTo>
                  <a:lnTo>
                    <a:pt x="376" y="0"/>
                  </a:lnTo>
                  <a:lnTo>
                    <a:pt x="0" y="0"/>
                  </a:lnTo>
                </a:path>
              </a:pathLst>
            </a:custGeom>
            <a:solidFill>
              <a:srgbClr val="99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42680" y="11426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1AA9F-63A9-4B70-9BD4-F6C63C35A8BF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CC00B-A105-44F9-9D28-A21EC350DA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6600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7.xm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960120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ffffff"/>
                </a:solidFill>
                <a:latin typeface="Arial"/>
              </a:rPr>
              <a:t>АО ГЕЛИКОН ПРО</a:t>
            </a:r>
            <a:endParaRPr b="0" lang="en-US" sz="58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-360" y="1980720"/>
            <a:ext cx="988524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Автоматизация кадровой служб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т учета кадров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к  управлению персонало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logo7" descr=""/>
          <p:cNvPicPr/>
          <p:nvPr/>
        </p:nvPicPr>
        <p:blipFill>
          <a:blip r:embed="rId1"/>
          <a:stretch/>
        </p:blipFill>
        <p:spPr>
          <a:xfrm>
            <a:off x="457200" y="6095880"/>
            <a:ext cx="3276720" cy="53352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742680" y="609120"/>
            <a:ext cx="862956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Arial"/>
              </a:rPr>
              <a:t>Рангулов Руслан Анварович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едущий специалист отдела внедрения информационных систем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л.: (3422) 103-101, 103-178,103-76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-mail: rra@gelicon.perm.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ww.gelicon.perm.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logo7" descr=""/>
          <p:cNvPicPr/>
          <p:nvPr/>
        </p:nvPicPr>
        <p:blipFill>
          <a:blip r:embed="rId1"/>
          <a:stretch/>
        </p:blipFill>
        <p:spPr>
          <a:xfrm>
            <a:off x="457200" y="6095880"/>
            <a:ext cx="3276720" cy="53352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-360" y="838080"/>
            <a:ext cx="98298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Arial"/>
              </a:rPr>
              <a:t>ФАКТОРЫ</a:t>
            </a:r>
            <a:br>
              <a:rPr sz="4000"/>
            </a:br>
            <a:r>
              <a:rPr b="1" lang="en-US" sz="4000" spc="-1" strike="noStrike">
                <a:solidFill>
                  <a:srgbClr val="6600ff"/>
                </a:solidFill>
                <a:latin typeface="Arial"/>
              </a:rPr>
              <a:t> определяющие необходимость развития системы управления персоналом </a:t>
            </a:r>
            <a:endParaRPr b="0" lang="en-US" sz="40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80880" y="2666520"/>
            <a:ext cx="9144000" cy="34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Обострение конкурен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Диверсификация деятельности предприят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logo7" descr=""/>
          <p:cNvPicPr/>
          <p:nvPr/>
        </p:nvPicPr>
        <p:blipFill>
          <a:blip r:embed="rId1"/>
          <a:stretch/>
        </p:blipFill>
        <p:spPr>
          <a:xfrm>
            <a:off x="457200" y="6095880"/>
            <a:ext cx="3276720" cy="53352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-360" y="380880"/>
            <a:ext cx="99061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Arial"/>
              </a:rPr>
              <a:t>Что дает автоматизация кадровой службы </a:t>
            </a:r>
            <a:endParaRPr b="0" lang="en-US" sz="40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62120" y="1294920"/>
            <a:ext cx="85723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Учет и управление трудовыми ресурс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Возможность получения достоверных данных о структуре предприятия, расстановке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ерсонала, структуре затрат на оплату тру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Обеспечение мероприятий по улучшению качества персона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Возможность внедрения новых кадровых технолог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Увеличение эффективности  труда сотрудников кадровых служб, плановых и расчетных подразделе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logo7" descr=""/>
          <p:cNvPicPr/>
          <p:nvPr/>
        </p:nvPicPr>
        <p:blipFill>
          <a:blip r:embed="rId1"/>
          <a:stretch/>
        </p:blipFill>
        <p:spPr>
          <a:xfrm>
            <a:off x="457200" y="6095880"/>
            <a:ext cx="3276720" cy="53352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84200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ff"/>
                </a:solidFill>
                <a:latin typeface="Arial"/>
              </a:rPr>
              <a:t>Возможности </a:t>
            </a:r>
            <a:br>
              <a:rPr sz="4400"/>
            </a:br>
            <a:r>
              <a:rPr b="0" lang="ru-RU" sz="4400" spc="-1" strike="noStrike">
                <a:solidFill>
                  <a:srgbClr val="6600ff"/>
                </a:solidFill>
                <a:latin typeface="Arial"/>
              </a:rPr>
              <a:t>КИС </a:t>
            </a:r>
            <a:r>
              <a:rPr b="0" lang="en-US" sz="4400" spc="-1" strike="noStrike">
                <a:solidFill>
                  <a:srgbClr val="6600ff"/>
                </a:solidFill>
                <a:latin typeface="Arial"/>
              </a:rPr>
              <a:t>“</a:t>
            </a:r>
            <a:r>
              <a:rPr b="0" lang="ru-RU" sz="4400" spc="-1" strike="noStrike">
                <a:solidFill>
                  <a:srgbClr val="6600ff"/>
                </a:solidFill>
                <a:latin typeface="Arial"/>
              </a:rPr>
              <a:t>Капитал </a:t>
            </a:r>
            <a:r>
              <a:rPr b="0" lang="en-US" sz="4400" spc="-1" strike="noStrike">
                <a:solidFill>
                  <a:srgbClr val="6600ff"/>
                </a:solidFill>
                <a:latin typeface="Arial"/>
              </a:rPr>
              <a:t>CSE” </a:t>
            </a:r>
            <a:r>
              <a:rPr b="0" lang="ru-RU" sz="4400" spc="-1" strike="noStrike">
                <a:solidFill>
                  <a:srgbClr val="6600ff"/>
                </a:solidFill>
                <a:latin typeface="Arial"/>
              </a:rPr>
              <a:t>в части управления персоналом</a:t>
            </a:r>
            <a:endParaRPr b="0" lang="en-US" sz="44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90720" y="1752120"/>
            <a:ext cx="86104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Ведение организационной структуры предприя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hlinkClick r:id="rId1" action="ppaction://hlinksldjump"/>
              </a:rPr>
              <a:t> Полный учет информации о сотрудниках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hlinkClick r:id="rId2" action="ppaction://hlinksldjump"/>
              </a:rPr>
              <a:t> Ведение кадровой документации и отчетности в соответствии с требованиями ТК РФ и Госкомста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Учет отработанного времени и расходов по оплате тру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9067680" y="61722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6100" y="10800"/>
                </a:moveTo>
                <a:lnTo>
                  <a:pt x="5595" y="17806"/>
                </a:lnTo>
                <a:lnTo>
                  <a:pt x="5595" y="3794"/>
                </a:lnTo>
                <a:close/>
              </a:path>
              <a:path fill="darken" w="25203" h="21600">
                <a:moveTo>
                  <a:pt x="17945" y="3794"/>
                </a:moveTo>
                <a:lnTo>
                  <a:pt x="17945" y="17806"/>
                </a:lnTo>
                <a:lnTo>
                  <a:pt x="19608" y="17806"/>
                </a:lnTo>
                <a:lnTo>
                  <a:pt x="19608" y="3794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logo7" descr=""/>
          <p:cNvPicPr/>
          <p:nvPr/>
        </p:nvPicPr>
        <p:blipFill>
          <a:blip r:embed="rId3"/>
          <a:stretch/>
        </p:blipFill>
        <p:spPr>
          <a:xfrm>
            <a:off x="457200" y="6095880"/>
            <a:ext cx="3276720" cy="53352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ff"/>
                </a:solidFill>
                <a:latin typeface="Times New Roman"/>
              </a:rPr>
              <a:t>ВЕДЕНИЕ ОРГАНИЗАЦИОННОЙ СТРУКТУРЫ ПРЕДПРИЯТИЯ</a:t>
            </a:r>
            <a:endParaRPr b="0" lang="en-US" sz="28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рганизация справочника штатного расписания в виде иерархического дере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Хранение всей истории движений сотрудников и изменения штатного расписания, получение актуальной картины о кадровом составе и структуре предприятия на произвольный момент време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ормирование сводной отчетности о штатной численности, занятости ставок, вакантных ставках, планируемом фонде заработной пла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067680" y="61722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logo7" descr=""/>
          <p:cNvPicPr/>
          <p:nvPr/>
        </p:nvPicPr>
        <p:blipFill>
          <a:blip r:embed="rId1"/>
          <a:stretch/>
        </p:blipFill>
        <p:spPr>
          <a:xfrm>
            <a:off x="457200" y="6095880"/>
            <a:ext cx="3276720" cy="53352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ff"/>
                </a:solidFill>
                <a:latin typeface="Arial"/>
              </a:rPr>
              <a:t>ПОЛНЫЙ УЧЕТ</a:t>
            </a:r>
            <a:br>
              <a:rPr sz="2800"/>
            </a:br>
            <a:r>
              <a:rPr b="1" lang="en-US" sz="2800" spc="-1" strike="noStrike">
                <a:solidFill>
                  <a:srgbClr val="6600ff"/>
                </a:solidFill>
                <a:latin typeface="Arial"/>
              </a:rPr>
              <a:t>ИНФОРМАЦИИ О СОТРУДНИКАХ ПРЕДПРИЯТИЯ</a:t>
            </a:r>
            <a:endParaRPr b="0" lang="en-US" sz="28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42680" y="1447920"/>
            <a:ext cx="842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70440" indent="-370440">
              <a:lnSpc>
                <a:spcPct val="70000"/>
              </a:lnSpc>
              <a:spcBef>
                <a:spcPts val="601"/>
              </a:spcBef>
              <a:buClr>
                <a:srgbClr val="66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Формирование личных сведений сотрудни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0440" indent="-370440">
              <a:lnSpc>
                <a:spcPct val="70000"/>
              </a:lnSpc>
              <a:spcBef>
                <a:spcPts val="601"/>
              </a:spcBef>
              <a:buClr>
                <a:srgbClr val="66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Хранение полной истории работы сотрудника на предприят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0440" indent="-370440">
              <a:lnSpc>
                <a:spcPct val="70000"/>
              </a:lnSpc>
              <a:spcBef>
                <a:spcPts val="601"/>
              </a:spcBef>
              <a:buClr>
                <a:srgbClr val="66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Учет документов о неявках (отпуска, командировки, временная нетрудоспособность, ..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0440" indent="-370440">
              <a:lnSpc>
                <a:spcPct val="70000"/>
              </a:lnSpc>
              <a:spcBef>
                <a:spcPts val="601"/>
              </a:spcBef>
              <a:buClr>
                <a:srgbClr val="66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Учет переподготовок и аттестаций сотрудни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0440" indent="-370440">
              <a:lnSpc>
                <a:spcPct val="70000"/>
              </a:lnSpc>
              <a:spcBef>
                <a:spcPts val="601"/>
              </a:spcBef>
              <a:buClr>
                <a:srgbClr val="66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044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озволяет получать информацию п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0440" indent="-370440">
              <a:lnSpc>
                <a:spcPct val="100000"/>
              </a:lnSpc>
              <a:spcBef>
                <a:spcPts val="601"/>
              </a:spcBef>
              <a:buClr>
                <a:srgbClr val="66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писочной численности на любую дату и среднесписочной численности за любой перио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ремен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0440" indent="-370440" algn="just">
              <a:lnSpc>
                <a:spcPct val="100000"/>
              </a:lnSpc>
              <a:spcBef>
                <a:spcPts val="601"/>
              </a:spcBef>
              <a:buClr>
                <a:srgbClr val="66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о образованию и повышению квалификации персона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0440" indent="-370440" algn="just">
              <a:lnSpc>
                <a:spcPct val="100000"/>
              </a:lnSpc>
              <a:spcBef>
                <a:spcPts val="601"/>
              </a:spcBef>
              <a:buClr>
                <a:srgbClr val="66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9067680" y="61722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logo7" descr=""/>
          <p:cNvPicPr/>
          <p:nvPr/>
        </p:nvPicPr>
        <p:blipFill>
          <a:blip r:embed="rId1"/>
          <a:stretch/>
        </p:blipFill>
        <p:spPr>
          <a:xfrm>
            <a:off x="457200" y="6095880"/>
            <a:ext cx="3276720" cy="53352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ff"/>
                </a:solidFill>
                <a:latin typeface="Arial"/>
              </a:rPr>
              <a:t>ВЕДЕНИЕ КАДРОВОЙ ДОКУМЕНТАЦИИ И</a:t>
            </a:r>
            <a:br>
              <a:rPr sz="2800"/>
            </a:br>
            <a:r>
              <a:rPr b="1" lang="en-US" sz="2800" spc="-1" strike="noStrike">
                <a:solidFill>
                  <a:srgbClr val="6600ff"/>
                </a:solidFill>
                <a:latin typeface="Arial"/>
              </a:rPr>
              <a:t> ОТЧЕТНОСТИ В СООТВЕТСТВИИ </a:t>
            </a:r>
            <a:br>
              <a:rPr sz="2800"/>
            </a:br>
            <a:r>
              <a:rPr b="1" lang="en-US" sz="2800" spc="-1" strike="noStrike">
                <a:solidFill>
                  <a:srgbClr val="6600ff"/>
                </a:solidFill>
                <a:latin typeface="Arial"/>
              </a:rPr>
              <a:t>С ТРЕБОВАНИЯМИ ТК РФ И ГОСКОМСТАТА</a:t>
            </a:r>
            <a:endParaRPr b="0" lang="en-US" sz="28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оддержка унифицированных  форм Госкомстата по учету тру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оддержка классификаторов ОКАТО, ОК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озможность ведения справочника должностей в соответствии с ОКПДТ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9067680" y="61722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logo7" descr=""/>
          <p:cNvPicPr/>
          <p:nvPr/>
        </p:nvPicPr>
        <p:blipFill>
          <a:blip r:embed="rId1"/>
          <a:stretch/>
        </p:blipFill>
        <p:spPr>
          <a:xfrm>
            <a:off x="457200" y="6095880"/>
            <a:ext cx="3276720" cy="53352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61760" y="228240"/>
            <a:ext cx="838188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ff"/>
                </a:solidFill>
                <a:latin typeface="Arial"/>
              </a:rPr>
              <a:t>УЧЕТ ОТРАБОТАННОГО ВРЕМЕНИ И </a:t>
            </a:r>
            <a:br>
              <a:rPr sz="2800"/>
            </a:br>
            <a:r>
              <a:rPr b="1" lang="en-US" sz="2800" spc="-1" strike="noStrike">
                <a:solidFill>
                  <a:srgbClr val="6600ff"/>
                </a:solidFill>
                <a:latin typeface="Arial"/>
              </a:rPr>
              <a:t>РАСХОДОВ ПО ОПЛАТЕ ТРУДА</a:t>
            </a:r>
            <a:br>
              <a:rPr sz="4000"/>
            </a:br>
            <a:endParaRPr b="0" lang="en-US" sz="28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абельный уче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Гибкие алгоритмы расчетов заработной пла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чет расходов на заработную плату по шифрам производственных затра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9144000" y="61722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logo7" descr=""/>
          <p:cNvPicPr/>
          <p:nvPr/>
        </p:nvPicPr>
        <p:blipFill>
          <a:blip r:embed="rId1"/>
          <a:stretch/>
        </p:blipFill>
        <p:spPr>
          <a:xfrm>
            <a:off x="457200" y="6095880"/>
            <a:ext cx="3276720" cy="53352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ff"/>
                </a:solidFill>
                <a:latin typeface="Arial"/>
              </a:rPr>
              <a:t>ДОСТОИНСТВА</a:t>
            </a:r>
            <a:endParaRPr b="0" lang="en-US" sz="28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8420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Единое информационное пространство всех модулей систе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ткрытая настройка расчетных алгоритм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зграничение прав доступ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асштабируемость по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ункциональному использовани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изводи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ответствие форматов экспортируемых данных требованиям МНС и ПФ Р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ехническая поддержка и сопровождени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logo7" descr=""/>
          <p:cNvPicPr/>
          <p:nvPr/>
        </p:nvPicPr>
        <p:blipFill>
          <a:blip r:embed="rId1"/>
          <a:stretch/>
        </p:blipFill>
        <p:spPr>
          <a:xfrm>
            <a:off x="457200" y="6095880"/>
            <a:ext cx="3276720" cy="53352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07T18:13:00Z</dcterms:created>
  <dc:creator>Виктор Шишляев</dc:creator>
  <dc:description/>
  <dc:language>en-US</dc:language>
  <cp:lastModifiedBy>В.В. Шишляев</cp:lastModifiedBy>
  <cp:lastPrinted>2002-12-03T05:11:13Z</cp:lastPrinted>
  <dcterms:modified xsi:type="dcterms:W3CDTF">2002-12-10T14:52:06Z</dcterms:modified>
  <cp:revision>405</cp:revision>
  <dc:subject/>
  <dc:title>ОСНОВНЫЕ НАПРАВЛЕНИЯ ДЕЯТЕЛЬНОСТИ АО ГЕЛИКОН ПРО</dc:title>
</cp:coreProperties>
</file>